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52F-DAAA-4011-9A17-E5CBABF2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990-9DB6-4D9C-B6FC-F8B4E05E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FF3-E2A6-4756-866A-27F0454B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252-7604-4C31-B219-DCEF7DF1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33C-817F-4517-A994-647C428A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835-3851-4BA9-A1FE-71110D2C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21D-A8DC-420A-BEED-25E11045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038-8851-4122-BE4A-80A73C14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D41-E140-4A05-A2D0-D9EA6FB4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048-8FFF-4F2A-B99A-A4B35A44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C9A-1794-401F-881D-5C69C2AD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065-9B39-4125-99D6-329B7AAE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6287-4AE1-42BD-AFCA-29712E343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/3.0/fr/" TargetMode="External"/><Relationship Id="rId2" Type="http://schemas.openxmlformats.org/officeDocument/2006/relationships/hyperlink" Target="http://www.metacontents.fr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053040" y="2482920"/>
            <a:ext cx="1422000" cy="1422000"/>
            <a:chOff x="6053040" y="2482920"/>
            <a:chExt cx="1422000" cy="1422000"/>
          </a:xfrm>
        </p:grpSpPr>
        <p:grpSp>
          <p:nvGrpSpPr>
            <p:cNvPr id="42" name="Group 3"/>
            <p:cNvGrpSpPr/>
            <p:nvPr/>
          </p:nvGrpSpPr>
          <p:grpSpPr>
            <a:xfrm>
              <a:off x="6308640" y="2736720"/>
              <a:ext cx="852840" cy="861120"/>
              <a:chOff x="6308640" y="2736720"/>
              <a:chExt cx="852840" cy="861120"/>
            </a:xfrm>
          </p:grpSpPr>
          <p:sp>
            <p:nvSpPr>
              <p:cNvPr id="43" name="Tools Icon"/>
              <p:cNvSpPr/>
              <p:nvPr/>
            </p:nvSpPr>
            <p:spPr>
              <a:xfrm>
                <a:off x="6373800" y="2784240"/>
                <a:ext cx="783000" cy="786240"/>
              </a:xfrm>
              <a:custGeom>
                <a:avLst/>
                <a:gdLst>
                  <a:gd name="textAreaLeft" fmla="*/ 0 w 783000"/>
                  <a:gd name="textAreaRight" fmla="*/ 783360 w 783000"/>
                  <a:gd name="textAreaTop" fmla="*/ 0 h 786240"/>
                  <a:gd name="textAreaBottom" fmla="*/ 786600 h 786240"/>
                </a:gdLst>
                <a:ahLst/>
                <a:rect l="textAreaLeft" t="textAreaTop" r="textAreaRight" b="textAreaBottom"/>
                <a:pathLst>
                  <a:path w="736" h="736">
                    <a:moveTo>
                      <a:pt x="159" y="461"/>
                    </a:moveTo>
                    <a:cubicBezTo>
                      <a:pt x="179" y="461"/>
                      <a:pt x="199" y="466"/>
                      <a:pt x="216" y="474"/>
                    </a:cubicBezTo>
                    <a:lnTo>
                      <a:pt x="326" y="365"/>
                    </a:lnTo>
                    <a:lnTo>
                      <a:pt x="285" y="324"/>
                    </a:lnTo>
                    <a:lnTo>
                      <a:pt x="246" y="363"/>
                    </a:lnTo>
                    <a:lnTo>
                      <a:pt x="207" y="324"/>
                    </a:lnTo>
                    <a:lnTo>
                      <a:pt x="223" y="308"/>
                    </a:lnTo>
                    <a:cubicBezTo>
                      <a:pt x="190" y="295"/>
                      <a:pt x="165" y="269"/>
                      <a:pt x="126" y="229"/>
                    </a:cubicBezTo>
                    <a:cubicBezTo>
                      <a:pt x="46" y="149"/>
                      <a:pt x="0" y="64"/>
                      <a:pt x="32" y="32"/>
                    </a:cubicBezTo>
                    <a:cubicBezTo>
                      <a:pt x="64" y="0"/>
                      <a:pt x="135" y="32"/>
                      <a:pt x="216" y="113"/>
                    </a:cubicBezTo>
                    <a:cubicBezTo>
                      <a:pt x="255" y="152"/>
                      <a:pt x="295" y="190"/>
                      <a:pt x="307" y="223"/>
                    </a:cubicBezTo>
                    <a:lnTo>
                      <a:pt x="324" y="207"/>
                    </a:lnTo>
                    <a:lnTo>
                      <a:pt x="362" y="246"/>
                    </a:lnTo>
                    <a:lnTo>
                      <a:pt x="324" y="285"/>
                    </a:lnTo>
                    <a:lnTo>
                      <a:pt x="365" y="326"/>
                    </a:lnTo>
                    <a:lnTo>
                      <a:pt x="474" y="217"/>
                    </a:lnTo>
                    <a:cubicBezTo>
                      <a:pt x="466" y="199"/>
                      <a:pt x="461" y="179"/>
                      <a:pt x="461" y="159"/>
                    </a:cubicBezTo>
                    <a:cubicBezTo>
                      <a:pt x="461" y="83"/>
                      <a:pt x="523" y="21"/>
                      <a:pt x="599" y="21"/>
                    </a:cubicBezTo>
                    <a:cubicBezTo>
                      <a:pt x="617" y="21"/>
                      <a:pt x="634" y="25"/>
                      <a:pt x="649" y="31"/>
                    </a:cubicBezTo>
                    <a:lnTo>
                      <a:pt x="544" y="136"/>
                    </a:lnTo>
                    <a:lnTo>
                      <a:pt x="622" y="214"/>
                    </a:lnTo>
                    <a:lnTo>
                      <a:pt x="727" y="108"/>
                    </a:lnTo>
                    <a:cubicBezTo>
                      <a:pt x="733" y="124"/>
                      <a:pt x="736" y="141"/>
                      <a:pt x="736" y="159"/>
                    </a:cubicBezTo>
                    <a:cubicBezTo>
                      <a:pt x="736" y="235"/>
                      <a:pt x="675" y="296"/>
                      <a:pt x="599" y="296"/>
                    </a:cubicBezTo>
                    <a:cubicBezTo>
                      <a:pt x="584" y="296"/>
                      <a:pt x="570" y="294"/>
                      <a:pt x="556" y="290"/>
                    </a:cubicBezTo>
                    <a:lnTo>
                      <a:pt x="442" y="404"/>
                    </a:lnTo>
                    <a:lnTo>
                      <a:pt x="603" y="564"/>
                    </a:lnTo>
                    <a:lnTo>
                      <a:pt x="612" y="554"/>
                    </a:lnTo>
                    <a:lnTo>
                      <a:pt x="707" y="649"/>
                    </a:lnTo>
                    <a:lnTo>
                      <a:pt x="648" y="707"/>
                    </a:lnTo>
                    <a:lnTo>
                      <a:pt x="554" y="612"/>
                    </a:lnTo>
                    <a:lnTo>
                      <a:pt x="564" y="603"/>
                    </a:lnTo>
                    <a:lnTo>
                      <a:pt x="403" y="443"/>
                    </a:lnTo>
                    <a:lnTo>
                      <a:pt x="290" y="557"/>
                    </a:lnTo>
                    <a:cubicBezTo>
                      <a:pt x="294" y="570"/>
                      <a:pt x="296" y="584"/>
                      <a:pt x="296" y="599"/>
                    </a:cubicBezTo>
                    <a:cubicBezTo>
                      <a:pt x="296" y="675"/>
                      <a:pt x="235" y="736"/>
                      <a:pt x="159" y="736"/>
                    </a:cubicBezTo>
                    <a:cubicBezTo>
                      <a:pt x="141" y="736"/>
                      <a:pt x="124" y="733"/>
                      <a:pt x="108" y="727"/>
                    </a:cubicBezTo>
                    <a:lnTo>
                      <a:pt x="214" y="622"/>
                    </a:lnTo>
                    <a:lnTo>
                      <a:pt x="136" y="544"/>
                    </a:lnTo>
                    <a:lnTo>
                      <a:pt x="31" y="649"/>
                    </a:lnTo>
                    <a:cubicBezTo>
                      <a:pt x="24" y="634"/>
                      <a:pt x="21" y="617"/>
                      <a:pt x="21" y="599"/>
                    </a:cubicBezTo>
                    <a:cubicBezTo>
                      <a:pt x="21" y="523"/>
                      <a:pt x="83" y="461"/>
                      <a:pt x="159" y="461"/>
                    </a:cubicBezTo>
                    <a:close/>
                  </a:path>
                </a:pathLst>
              </a:custGeom>
              <a:solidFill>
                <a:srgbClr val="333333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6308640" y="2736720"/>
                <a:ext cx="837000" cy="861120"/>
              </a:xfrm>
              <a:custGeom>
                <a:avLst/>
                <a:gdLst>
                  <a:gd name="textAreaLeft" fmla="*/ 0 w 837000"/>
                  <a:gd name="textAreaRight" fmla="*/ 837360 w 837000"/>
                  <a:gd name="textAreaTop" fmla="*/ 0 h 861120"/>
                  <a:gd name="textAreaBottom" fmla="*/ 861480 h 861120"/>
                </a:gdLst>
                <a:ahLst/>
                <a:rect l="textAreaLeft" t="textAreaTop" r="textAreaRight" b="textAreaBottom"/>
                <a:pathLst>
                  <a:path w="370" h="381">
                    <a:moveTo>
                      <a:pt x="370" y="315"/>
                    </a:moveTo>
                    <a:lnTo>
                      <a:pt x="72" y="0"/>
                    </a:lnTo>
                    <a:lnTo>
                      <a:pt x="0" y="45"/>
                    </a:lnTo>
                    <a:lnTo>
                      <a:pt x="105" y="162"/>
                    </a:lnTo>
                    <a:lnTo>
                      <a:pt x="336" y="381"/>
                    </a:lnTo>
                    <a:lnTo>
                      <a:pt x="370" y="3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6"/>
              <p:cNvSpPr/>
              <p:nvPr/>
            </p:nvSpPr>
            <p:spPr>
              <a:xfrm>
                <a:off x="6657120" y="3512160"/>
                <a:ext cx="504360" cy="6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Edit Icon"/>
              <p:cNvSpPr/>
              <p:nvPr/>
            </p:nvSpPr>
            <p:spPr>
              <a:xfrm flipH="1">
                <a:off x="6410160" y="2792880"/>
                <a:ext cx="712800" cy="759600"/>
              </a:xfrm>
              <a:custGeom>
                <a:avLst/>
                <a:gdLst>
                  <a:gd name="textAreaLeft" fmla="*/ 360 w 712800"/>
                  <a:gd name="textAreaRight" fmla="*/ 713520 w 712800"/>
                  <a:gd name="textAreaTop" fmla="*/ 0 h 759600"/>
                  <a:gd name="textAreaBottom" fmla="*/ 759960 h 759600"/>
                </a:gdLst>
                <a:ahLst/>
                <a:rect l="textAreaLeft" t="textAreaTop" r="textAreaRight" b="textAreaBottom"/>
                <a:pathLst>
                  <a:path w="637" h="638">
                    <a:moveTo>
                      <a:pt x="388" y="109"/>
                    </a:moveTo>
                    <a:lnTo>
                      <a:pt x="529" y="250"/>
                    </a:lnTo>
                    <a:lnTo>
                      <a:pt x="190" y="589"/>
                    </a:lnTo>
                    <a:lnTo>
                      <a:pt x="49" y="448"/>
                    </a:lnTo>
                    <a:lnTo>
                      <a:pt x="388" y="109"/>
                    </a:lnTo>
                    <a:close/>
                    <a:moveTo>
                      <a:pt x="556" y="222"/>
                    </a:moveTo>
                    <a:lnTo>
                      <a:pt x="416" y="82"/>
                    </a:lnTo>
                    <a:lnTo>
                      <a:pt x="476" y="22"/>
                    </a:lnTo>
                    <a:cubicBezTo>
                      <a:pt x="498" y="0"/>
                      <a:pt x="534" y="0"/>
                      <a:pt x="556" y="22"/>
                    </a:cubicBezTo>
                    <a:lnTo>
                      <a:pt x="615" y="82"/>
                    </a:lnTo>
                    <a:cubicBezTo>
                      <a:pt x="637" y="104"/>
                      <a:pt x="637" y="140"/>
                      <a:pt x="615" y="162"/>
                    </a:cubicBezTo>
                    <a:lnTo>
                      <a:pt x="556" y="222"/>
                    </a:lnTo>
                    <a:close/>
                    <a:moveTo>
                      <a:pt x="14" y="638"/>
                    </a:moveTo>
                    <a:lnTo>
                      <a:pt x="0" y="624"/>
                    </a:lnTo>
                    <a:lnTo>
                      <a:pt x="37" y="506"/>
                    </a:lnTo>
                    <a:lnTo>
                      <a:pt x="132" y="601"/>
                    </a:lnTo>
                    <a:lnTo>
                      <a:pt x="14" y="638"/>
                    </a:lnTo>
                    <a:close/>
                  </a:path>
                </a:pathLst>
              </a:custGeom>
              <a:solidFill>
                <a:srgbClr val="333333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Circle"/>
            <p:cNvSpPr/>
            <p:nvPr/>
          </p:nvSpPr>
          <p:spPr>
            <a:xfrm>
              <a:off x="6053040" y="2482920"/>
              <a:ext cx="1422000" cy="1422000"/>
            </a:xfrm>
            <a:custGeom>
              <a:avLst/>
              <a:gdLst>
                <a:gd name="textAreaLeft" fmla="*/ 0 w 1422000"/>
                <a:gd name="textAreaRight" fmla="*/ 1422360 w 1422000"/>
                <a:gd name="textAreaTop" fmla="*/ 0 h 1422000"/>
                <a:gd name="textAreaBottom" fmla="*/ 1422360 h 1422000"/>
              </a:gdLst>
              <a:ahLst/>
              <a:rect l="textAreaLeft" t="textAreaTop" r="textAreaRight" b="textAreaBottom"/>
              <a:pathLst>
                <a:path w="1327" h="1326">
                  <a:moveTo>
                    <a:pt x="663" y="0"/>
                  </a:moveTo>
                  <a:cubicBezTo>
                    <a:pt x="1030" y="0"/>
                    <a:pt x="1327" y="297"/>
                    <a:pt x="1327" y="663"/>
                  </a:cubicBezTo>
                  <a:cubicBezTo>
                    <a:pt x="1327" y="1029"/>
                    <a:pt x="1030" y="1326"/>
                    <a:pt x="663" y="1326"/>
                  </a:cubicBezTo>
                  <a:cubicBezTo>
                    <a:pt x="297" y="1326"/>
                    <a:pt x="0" y="1029"/>
                    <a:pt x="0" y="663"/>
                  </a:cubicBezTo>
                  <a:cubicBezTo>
                    <a:pt x="0" y="297"/>
                    <a:pt x="297" y="0"/>
                    <a:pt x="663" y="0"/>
                  </a:cubicBezTo>
                  <a:close/>
                  <a:moveTo>
                    <a:pt x="663" y="85"/>
                  </a:moveTo>
                  <a:cubicBezTo>
                    <a:pt x="344" y="85"/>
                    <a:pt x="85" y="344"/>
                    <a:pt x="85" y="663"/>
                  </a:cubicBezTo>
                  <a:cubicBezTo>
                    <a:pt x="85" y="983"/>
                    <a:pt x="344" y="1242"/>
                    <a:pt x="663" y="1242"/>
                  </a:cubicBezTo>
                  <a:cubicBezTo>
                    <a:pt x="983" y="1242"/>
                    <a:pt x="1242" y="983"/>
                    <a:pt x="1242" y="663"/>
                  </a:cubicBezTo>
                  <a:cubicBezTo>
                    <a:pt x="1242" y="344"/>
                    <a:pt x="983" y="85"/>
                    <a:pt x="663" y="85"/>
                  </a:cubicBez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ZoneTexte 146"/>
          <p:cNvSpPr/>
          <p:nvPr/>
        </p:nvSpPr>
        <p:spPr>
          <a:xfrm>
            <a:off x="0" y="2503440"/>
            <a:ext cx="5643720" cy="1414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logo-meta-contents"/>
          <p:cNvPicPr/>
          <p:nvPr/>
        </p:nvPicPr>
        <p:blipFill>
          <a:blip r:embed="rId1"/>
          <a:stretch/>
        </p:blipFill>
        <p:spPr>
          <a:xfrm>
            <a:off x="162000" y="365040"/>
            <a:ext cx="2038320" cy="611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636560" y="2670120"/>
            <a:ext cx="4042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Kit du producteu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e contenus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146"/>
          <p:cNvSpPr/>
          <p:nvPr/>
        </p:nvSpPr>
        <p:spPr>
          <a:xfrm>
            <a:off x="0" y="6816600"/>
            <a:ext cx="9144000" cy="42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46"/>
          <p:cNvSpPr/>
          <p:nvPr/>
        </p:nvSpPr>
        <p:spPr>
          <a:xfrm>
            <a:off x="0" y="0"/>
            <a:ext cx="9144000" cy="23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498920" y="5799240"/>
            <a:ext cx="43941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46"/>
          <p:cNvSpPr/>
          <p:nvPr/>
        </p:nvSpPr>
        <p:spPr>
          <a:xfrm>
            <a:off x="3500280" y="4567320"/>
            <a:ext cx="5643720" cy="977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803760" y="4683240"/>
            <a:ext cx="472752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Z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146"/>
          <p:cNvSpPr/>
          <p:nvPr/>
        </p:nvSpPr>
        <p:spPr>
          <a:xfrm>
            <a:off x="0" y="6815160"/>
            <a:ext cx="9144000" cy="42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328760"/>
            <a:ext cx="7377120" cy="471600"/>
          </a:xfrm>
          <a:prstGeom prst="rect">
            <a:avLst/>
          </a:prstGeom>
          <a:solidFill>
            <a:srgbClr val="eaeaea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278080"/>
            <a:ext cx="7377120" cy="471600"/>
          </a:xfrm>
          <a:prstGeom prst="rect">
            <a:avLst/>
          </a:prstGeom>
          <a:solidFill>
            <a:srgbClr val="eaeaea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232080"/>
            <a:ext cx="7377120" cy="471600"/>
          </a:xfrm>
          <a:prstGeom prst="rect">
            <a:avLst/>
          </a:prstGeom>
          <a:solidFill>
            <a:srgbClr val="eaeaea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183200"/>
            <a:ext cx="7377120" cy="471240"/>
          </a:xfrm>
          <a:prstGeom prst="rect">
            <a:avLst/>
          </a:prstGeom>
          <a:solidFill>
            <a:srgbClr val="eaeaea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137200"/>
            <a:ext cx="7377120" cy="471600"/>
          </a:xfrm>
          <a:prstGeom prst="rect">
            <a:avLst/>
          </a:prstGeom>
          <a:solidFill>
            <a:srgbClr val="eaeaea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086520"/>
            <a:ext cx="7377120" cy="471600"/>
          </a:xfrm>
          <a:prstGeom prst="rect">
            <a:avLst/>
          </a:prstGeom>
          <a:solidFill>
            <a:srgbClr val="eaeaea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309240" y="128412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309240" y="176040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09240" y="223344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309240" y="271116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309240" y="319212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309240" y="366372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309240" y="414000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309240" y="46162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2076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2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240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66880" y="853920"/>
            <a:ext cx="0" cy="5823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44600" y="853920"/>
            <a:ext cx="0" cy="5869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19440" y="853920"/>
            <a:ext cx="0" cy="5842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98600" y="853920"/>
            <a:ext cx="0" cy="58564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4880" y="853920"/>
            <a:ext cx="0" cy="58658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9720" y="853920"/>
            <a:ext cx="0" cy="58532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22760" y="853920"/>
            <a:ext cx="0" cy="5894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00480" y="853920"/>
            <a:ext cx="0" cy="5813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75320" y="853920"/>
            <a:ext cx="0" cy="5832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54480" y="853920"/>
            <a:ext cx="0" cy="58723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29320" y="853920"/>
            <a:ext cx="0" cy="588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5748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4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240" y="124920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0" y="1722600"/>
            <a:ext cx="23652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2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5428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5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912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6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0360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7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7844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8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5616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9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3568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0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1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240" y="21956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3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40" y="267660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4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8520" y="1325520"/>
            <a:ext cx="7469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8520" y="1801800"/>
            <a:ext cx="74754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8520" y="2276640"/>
            <a:ext cx="74372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8520" y="2754360"/>
            <a:ext cx="74563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8520" y="3230640"/>
            <a:ext cx="748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8520" y="3705120"/>
            <a:ext cx="7462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0" y="315432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5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40" y="362916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6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8520" y="4183200"/>
            <a:ext cx="7469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240" y="410688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7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8520" y="4659480"/>
            <a:ext cx="7443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0" y="457668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8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82656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130284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77912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225720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733840" y="757080"/>
            <a:ext cx="8064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320796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67956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15728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463356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511452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558756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05600" y="853920"/>
            <a:ext cx="0" cy="58532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8500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2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606240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78640" y="853920"/>
            <a:ext cx="0" cy="58438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5804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3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653544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61040" y="853920"/>
            <a:ext cx="0" cy="58438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044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4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701784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27960" y="853920"/>
            <a:ext cx="0" cy="58532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0736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5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748476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09240" y="509256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8520" y="5135400"/>
            <a:ext cx="74563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40" y="505296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9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309240" y="556560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8520" y="5608800"/>
            <a:ext cx="7469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40" y="552600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0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309240" y="60418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8520" y="6084720"/>
            <a:ext cx="74311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240" y="600228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1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09240" y="651960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520" y="6562800"/>
            <a:ext cx="6237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240" y="648000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2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704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3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0640" y="6566040"/>
            <a:ext cx="698364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838080"/>
            <a:ext cx="7377120" cy="5811840"/>
          </a:xfrm>
          <a:prstGeom prst="roundRect">
            <a:avLst>
              <a:gd name="adj" fmla="val 0"/>
            </a:avLst>
          </a:prstGeom>
          <a:solidFill>
            <a:srgbClr val="ffffff">
              <a:alpha val="29000"/>
            </a:srgbClr>
          </a:solidFill>
          <a:ln cap="rnd" w="648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7080" y="1146240"/>
            <a:ext cx="3430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146"/>
          <p:cNvSpPr/>
          <p:nvPr/>
        </p:nvSpPr>
        <p:spPr>
          <a:xfrm>
            <a:off x="0" y="0"/>
            <a:ext cx="9144000" cy="23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46"/>
          <p:cNvSpPr/>
          <p:nvPr/>
        </p:nvSpPr>
        <p:spPr>
          <a:xfrm>
            <a:off x="57240" y="34920"/>
            <a:ext cx="5710320" cy="149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Document :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Zoning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|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Modèle :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1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|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Version :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1.0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|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Auteur :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Agence ABC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|   Statut : 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validé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  |   Date de validation :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05/01/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146"/>
          <p:cNvSpPr/>
          <p:nvPr/>
        </p:nvSpPr>
        <p:spPr>
          <a:xfrm>
            <a:off x="8267760" y="34920"/>
            <a:ext cx="857160" cy="149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Date : </a:t>
            </a:r>
            <a:fld id="{A2C684C7-2240-4AAA-837B-4E625B57A6EC}" type="datetime"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825680" y="851040"/>
            <a:ext cx="236520" cy="922320"/>
          </a:xfrm>
          <a:custGeom>
            <a:avLst/>
            <a:gdLst>
              <a:gd name="textAreaLeft" fmla="*/ 69480 w 236520"/>
              <a:gd name="textAreaRight" fmla="*/ 236880 w 23652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61480" y="1120680"/>
            <a:ext cx="94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alibri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7825680" y="1860480"/>
            <a:ext cx="236520" cy="2909880"/>
          </a:xfrm>
          <a:custGeom>
            <a:avLst/>
            <a:gdLst>
              <a:gd name="textAreaLeft" fmla="*/ 69480 w 236520"/>
              <a:gd name="textAreaRight" fmla="*/ 236880 w 236520"/>
              <a:gd name="textAreaTop" fmla="*/ 0 h 2909880"/>
              <a:gd name="textAreaBottom" fmla="*/ 2909880 h 29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61480" y="3125880"/>
            <a:ext cx="94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alibri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85000" y="3487680"/>
            <a:ext cx="8064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Segoe Print"/>
              </a:rPr>
              <a:t>Ligne de flottais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699160" y="3533760"/>
            <a:ext cx="345600" cy="385560"/>
            <a:chOff x="5699160" y="3533760"/>
            <a:chExt cx="345600" cy="385560"/>
          </a:xfrm>
        </p:grpSpPr>
        <p:sp>
          <p:nvSpPr>
            <p:cNvPr id="156" name=""/>
            <p:cNvSpPr/>
            <p:nvPr/>
          </p:nvSpPr>
          <p:spPr>
            <a:xfrm rot="5400000">
              <a:off x="5672880" y="3580560"/>
              <a:ext cx="365040" cy="312480"/>
            </a:xfrm>
            <a:custGeom>
              <a:avLst/>
              <a:gdLst/>
              <a:ahLst/>
              <a:rect l="l" t="t" r="r" b="b"/>
              <a:pathLst>
                <a:path w="316" h="340">
                  <a:moveTo>
                    <a:pt x="316" y="340"/>
                  </a:moveTo>
                  <a:cubicBezTo>
                    <a:pt x="248" y="238"/>
                    <a:pt x="181" y="137"/>
                    <a:pt x="128" y="80"/>
                  </a:cubicBezTo>
                  <a:cubicBezTo>
                    <a:pt x="75" y="23"/>
                    <a:pt x="37" y="11"/>
                    <a:pt x="0" y="0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5773320" y="3558960"/>
              <a:ext cx="296640" cy="245880"/>
            </a:xfrm>
            <a:custGeom>
              <a:avLst/>
              <a:gdLst/>
              <a:ahLst/>
              <a:rect l="l" t="t" r="r" b="b"/>
              <a:pathLst>
                <a:path w="187" h="155">
                  <a:moveTo>
                    <a:pt x="187" y="47"/>
                  </a:moveTo>
                  <a:cubicBezTo>
                    <a:pt x="148" y="35"/>
                    <a:pt x="109" y="23"/>
                    <a:pt x="79" y="19"/>
                  </a:cubicBezTo>
                  <a:cubicBezTo>
                    <a:pt x="49" y="15"/>
                    <a:pt x="0" y="0"/>
                    <a:pt x="7" y="23"/>
                  </a:cubicBezTo>
                  <a:lnTo>
                    <a:pt x="119" y="155"/>
                  </a:lnTo>
                </a:path>
              </a:pathLst>
            </a:custGeom>
            <a:noFill/>
            <a:ln w="316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96720" y="3517920"/>
            <a:ext cx="737244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019840" y="550440"/>
            <a:ext cx="0" cy="6093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2800" y="320760"/>
            <a:ext cx="10540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Segoe Print"/>
              </a:rPr>
              <a:t>Espace utile de 980 pixels en 1024 pixel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7360" y="849240"/>
            <a:ext cx="4621320" cy="2667240"/>
          </a:xfrm>
          <a:prstGeom prst="rect">
            <a:avLst/>
          </a:prstGeom>
          <a:blipFill rotWithShape="0">
            <a:blip r:embed="rId1">
              <a:alphaModFix amt="2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3240" y="3722760"/>
            <a:ext cx="5173920" cy="2430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Print"/>
              </a:rPr>
              <a:t>La ligne de flottaison correspond à la ligne en dessous de laquelle les contenus ne sont pas directement visibles à l’écran dans un navigateur web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Segoe Print"/>
              </a:rPr>
              <a:t>Elle dépend donc de la résolution de l’écran de l’internaute. La ligne de flottation est variabl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Print"/>
              </a:rPr>
              <a:t>Résolution de 1366 x 768 pixels =&gt; ligne de flottaison à environ 560 pixel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Print"/>
              </a:rPr>
              <a:t>Résolution de 1280 x 1024 pixels =&gt; ligne de flottaison à environ 820 pixel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Print"/>
              </a:rPr>
              <a:t>Résolution de 1440 x 1080 pixels =&gt; ligne de flottaison à environ 880 pixel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Segoe Print"/>
              </a:rPr>
              <a:t>Résolution de 1920 x 1200 pixels =&gt; ligne de flottaison à environ 1000 pixel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Print"/>
              </a:rPr>
              <a:t>L’écart entre la résolution et la hauteur de la ligne de flottaison tient au fait que la partie haute du navigateur (ligne de menu notamment + barre d’état) occupe une partie de l’espace utile visib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Print"/>
              </a:rPr>
              <a:t>Pour déterminer la ligne de flottaison optimale d’un site, il faut donc prendre en compte les résolutions les plus utilisées par les internautes à un moment donné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Print"/>
              </a:rPr>
              <a:t>En savoir plus sur le sujet : http://www.websitedimensions.com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790520" y="2349000"/>
            <a:ext cx="485280" cy="424440"/>
            <a:chOff x="4790520" y="2349000"/>
            <a:chExt cx="485280" cy="424440"/>
          </a:xfrm>
        </p:grpSpPr>
        <p:sp>
          <p:nvSpPr>
            <p:cNvPr id="164" name=""/>
            <p:cNvSpPr/>
            <p:nvPr/>
          </p:nvSpPr>
          <p:spPr>
            <a:xfrm rot="20317200">
              <a:off x="4866120" y="2404800"/>
              <a:ext cx="365040" cy="312840"/>
            </a:xfrm>
            <a:custGeom>
              <a:avLst/>
              <a:gdLst/>
              <a:ahLst/>
              <a:rect l="l" t="t" r="r" b="b"/>
              <a:pathLst>
                <a:path w="316" h="340">
                  <a:moveTo>
                    <a:pt x="316" y="340"/>
                  </a:moveTo>
                  <a:cubicBezTo>
                    <a:pt x="248" y="238"/>
                    <a:pt x="181" y="137"/>
                    <a:pt x="128" y="80"/>
                  </a:cubicBezTo>
                  <a:cubicBezTo>
                    <a:pt x="75" y="23"/>
                    <a:pt x="37" y="11"/>
                    <a:pt x="0" y="0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317200">
              <a:off x="4825080" y="2396160"/>
              <a:ext cx="296640" cy="246240"/>
            </a:xfrm>
            <a:custGeom>
              <a:avLst/>
              <a:gdLst/>
              <a:ahLst/>
              <a:rect l="l" t="t" r="r" b="b"/>
              <a:pathLst>
                <a:path w="187" h="155">
                  <a:moveTo>
                    <a:pt x="187" y="47"/>
                  </a:moveTo>
                  <a:cubicBezTo>
                    <a:pt x="148" y="35"/>
                    <a:pt x="109" y="23"/>
                    <a:pt x="79" y="19"/>
                  </a:cubicBezTo>
                  <a:cubicBezTo>
                    <a:pt x="49" y="15"/>
                    <a:pt x="0" y="0"/>
                    <a:pt x="7" y="23"/>
                  </a:cubicBezTo>
                  <a:lnTo>
                    <a:pt x="119" y="155"/>
                  </a:lnTo>
                </a:path>
              </a:pathLst>
            </a:custGeom>
            <a:noFill/>
            <a:ln w="316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121360" y="2432160"/>
            <a:ext cx="1839960" cy="525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Print"/>
              </a:rPr>
              <a:t>Web safe area</a:t>
            </a:r>
            <a:r>
              <a:rPr b="0" lang="en-US" sz="1000" spc="-1" strike="noStrike">
                <a:solidFill>
                  <a:srgbClr val="ffffff"/>
                </a:solidFill>
                <a:latin typeface="Segoe Print"/>
              </a:rPr>
              <a:t> = Zone maximale visible pour une résolution donn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56480" y="3540240"/>
            <a:ext cx="0" cy="121752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56480" y="1541520"/>
            <a:ext cx="0" cy="28872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556480" y="817560"/>
            <a:ext cx="0" cy="29520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8556480" y="1863360"/>
            <a:ext cx="0" cy="125244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825680" y="4865760"/>
            <a:ext cx="236520" cy="922320"/>
          </a:xfrm>
          <a:custGeom>
            <a:avLst/>
            <a:gdLst>
              <a:gd name="textAreaLeft" fmla="*/ 69480 w 236520"/>
              <a:gd name="textAreaRight" fmla="*/ 236880 w 23652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61480" y="5135400"/>
            <a:ext cx="94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alibri"/>
              </a:rPr>
              <a:t>FOO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56480" y="5556240"/>
            <a:ext cx="0" cy="22716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556480" y="4865400"/>
            <a:ext cx="0" cy="26172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ZoneTexte 146"/>
          <p:cNvSpPr/>
          <p:nvPr/>
        </p:nvSpPr>
        <p:spPr>
          <a:xfrm>
            <a:off x="0" y="6815160"/>
            <a:ext cx="9144000" cy="42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Texte 146"/>
          <p:cNvSpPr/>
          <p:nvPr/>
        </p:nvSpPr>
        <p:spPr>
          <a:xfrm>
            <a:off x="0" y="0"/>
            <a:ext cx="9144000" cy="23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146"/>
          <p:cNvSpPr/>
          <p:nvPr/>
        </p:nvSpPr>
        <p:spPr>
          <a:xfrm>
            <a:off x="57240" y="34920"/>
            <a:ext cx="5710320" cy="149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Document :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Zoning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|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Modèle :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1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|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Version :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1.0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|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Auteur :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Agence ABC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|   Statut : 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validé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  |   Date de validation :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05/01/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oneTexte 146"/>
          <p:cNvSpPr/>
          <p:nvPr/>
        </p:nvSpPr>
        <p:spPr>
          <a:xfrm>
            <a:off x="8267760" y="34920"/>
            <a:ext cx="857160" cy="149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Date : </a:t>
            </a:r>
            <a:fld id="{2365BB82-9EAF-4256-BAAF-84238FA754AD}" type="datetime"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oneTexte 146"/>
          <p:cNvSpPr/>
          <p:nvPr/>
        </p:nvSpPr>
        <p:spPr>
          <a:xfrm>
            <a:off x="0" y="6815160"/>
            <a:ext cx="9144000" cy="42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328760"/>
            <a:ext cx="7377120" cy="471600"/>
          </a:xfrm>
          <a:prstGeom prst="rect">
            <a:avLst/>
          </a:prstGeom>
          <a:solidFill>
            <a:srgbClr val="eaeaea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2278080"/>
            <a:ext cx="7377120" cy="471600"/>
          </a:xfrm>
          <a:prstGeom prst="rect">
            <a:avLst/>
          </a:prstGeom>
          <a:solidFill>
            <a:srgbClr val="eaeaea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3232080"/>
            <a:ext cx="7377120" cy="471600"/>
          </a:xfrm>
          <a:prstGeom prst="rect">
            <a:avLst/>
          </a:prstGeom>
          <a:solidFill>
            <a:srgbClr val="eaeaea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4183200"/>
            <a:ext cx="7377120" cy="471240"/>
          </a:xfrm>
          <a:prstGeom prst="rect">
            <a:avLst/>
          </a:prstGeom>
          <a:solidFill>
            <a:srgbClr val="eaeaea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5137200"/>
            <a:ext cx="7377120" cy="471600"/>
          </a:xfrm>
          <a:prstGeom prst="rect">
            <a:avLst/>
          </a:prstGeom>
          <a:solidFill>
            <a:srgbClr val="eaeaea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6086520"/>
            <a:ext cx="7377120" cy="471600"/>
          </a:xfrm>
          <a:prstGeom prst="rect">
            <a:avLst/>
          </a:prstGeom>
          <a:solidFill>
            <a:srgbClr val="eaeaea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309240" y="128412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309240" y="176040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309240" y="223344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309240" y="271116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309240" y="319212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309240" y="366372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5400000">
            <a:off x="309240" y="414000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309240" y="46162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2076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2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240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6880" y="853920"/>
            <a:ext cx="0" cy="5823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4600" y="853920"/>
            <a:ext cx="0" cy="5869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19440" y="853920"/>
            <a:ext cx="0" cy="5842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98600" y="853920"/>
            <a:ext cx="0" cy="58564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74880" y="853920"/>
            <a:ext cx="0" cy="58658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9720" y="853920"/>
            <a:ext cx="0" cy="58532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22760" y="853920"/>
            <a:ext cx="0" cy="5894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00480" y="853920"/>
            <a:ext cx="0" cy="5813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75320" y="853920"/>
            <a:ext cx="0" cy="5832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54480" y="853920"/>
            <a:ext cx="0" cy="58723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29320" y="853920"/>
            <a:ext cx="0" cy="588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5748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4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240" y="124920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240" y="1722600"/>
            <a:ext cx="23652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2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5428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5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912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6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0360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7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7844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8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5616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9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3568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0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1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240" y="21956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3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240" y="267660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4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520" y="1325520"/>
            <a:ext cx="7469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8520" y="1801800"/>
            <a:ext cx="74754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8520" y="2276640"/>
            <a:ext cx="74372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8520" y="2754360"/>
            <a:ext cx="74563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8520" y="3230640"/>
            <a:ext cx="748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8520" y="3705120"/>
            <a:ext cx="7462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40" y="315432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5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240" y="362916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6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8520" y="4183200"/>
            <a:ext cx="7469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240" y="410688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7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8520" y="4659480"/>
            <a:ext cx="7443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240" y="457668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8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82656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130284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0800000">
            <a:off x="177912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0800000">
            <a:off x="225720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0800000">
            <a:off x="2733840" y="757080"/>
            <a:ext cx="8064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20796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367956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0800000">
            <a:off x="415728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0800000">
            <a:off x="463356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0800000">
            <a:off x="511452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558756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05600" y="853920"/>
            <a:ext cx="0" cy="58532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8500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2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606240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78640" y="853920"/>
            <a:ext cx="0" cy="58438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5804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3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653544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61040" y="853920"/>
            <a:ext cx="0" cy="58438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044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4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0800000">
            <a:off x="701784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27960" y="853920"/>
            <a:ext cx="0" cy="58532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0736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5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0800000">
            <a:off x="7484760" y="75708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309240" y="509256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8520" y="5135400"/>
            <a:ext cx="74563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" y="505296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9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5400000">
            <a:off x="309600" y="6168960"/>
            <a:ext cx="8064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8520" y="6211800"/>
            <a:ext cx="7469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" y="552600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0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240" y="600228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1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309240" y="651960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8520" y="6562800"/>
            <a:ext cx="6237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240" y="648000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12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97040" y="608040"/>
            <a:ext cx="23652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d4d4d"/>
                </a:solidFill>
                <a:latin typeface="Calibri"/>
              </a:rPr>
              <a:t>300 p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838080"/>
            <a:ext cx="7377120" cy="5811840"/>
          </a:xfrm>
          <a:prstGeom prst="roundRect">
            <a:avLst>
              <a:gd name="adj" fmla="val 0"/>
            </a:avLst>
          </a:prstGeom>
          <a:solidFill>
            <a:srgbClr val="ffffff">
              <a:alpha val="29000"/>
            </a:srgbClr>
          </a:solidFill>
          <a:ln cap="rnd" w="648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777080" y="1146240"/>
            <a:ext cx="3430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85000" y="3487680"/>
            <a:ext cx="8064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Segoe Print"/>
              </a:rPr>
              <a:t>Ligne de flottais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019840" y="550440"/>
            <a:ext cx="0" cy="6093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13400" y="320760"/>
            <a:ext cx="806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Segoe Print"/>
              </a:rPr>
              <a:t>Espace utile en 1024 pixel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825680" y="851040"/>
            <a:ext cx="236520" cy="826920"/>
          </a:xfrm>
          <a:custGeom>
            <a:avLst/>
            <a:gdLst>
              <a:gd name="textAreaLeft" fmla="*/ 69480 w 236520"/>
              <a:gd name="textAreaRight" fmla="*/ 236880 w 23652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825680" y="1724040"/>
            <a:ext cx="236520" cy="4351320"/>
          </a:xfrm>
          <a:custGeom>
            <a:avLst/>
            <a:gdLst>
              <a:gd name="textAreaLeft" fmla="*/ 69480 w 236520"/>
              <a:gd name="textAreaRight" fmla="*/ 236880 w 236520"/>
              <a:gd name="textAreaTop" fmla="*/ 0 h 4351320"/>
              <a:gd name="textAreaBottom" fmla="*/ 4351680 h 435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56480" y="4133880"/>
            <a:ext cx="0" cy="193356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56480" y="1420920"/>
            <a:ext cx="0" cy="25056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8556480" y="841320"/>
            <a:ext cx="0" cy="27936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8550360" y="1763280"/>
            <a:ext cx="0" cy="191628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825680" y="6132600"/>
            <a:ext cx="236520" cy="500040"/>
          </a:xfrm>
          <a:custGeom>
            <a:avLst/>
            <a:gdLst>
              <a:gd name="textAreaLeft" fmla="*/ 69480 w 236520"/>
              <a:gd name="textAreaRight" fmla="*/ 236880 w 23652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556480" y="6512040"/>
            <a:ext cx="0" cy="12672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556480" y="6168600"/>
            <a:ext cx="0" cy="12564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200" y="992160"/>
            <a:ext cx="4935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69696"/>
                </a:solidFill>
                <a:latin typeface="Calibri"/>
              </a:rPr>
              <a:t>LO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78200" y="1044720"/>
            <a:ext cx="1446120" cy="1746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RECHERCHE WE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68800" y="1131840"/>
            <a:ext cx="78120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PAN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68800" y="920880"/>
            <a:ext cx="78120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ESPACE CL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5920" y="1522440"/>
            <a:ext cx="703080" cy="1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RUBRIQU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1522440"/>
            <a:ext cx="703440" cy="1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RUBRIQUE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33480" y="1522440"/>
            <a:ext cx="703440" cy="1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RUBRIQU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65360" y="1522440"/>
            <a:ext cx="703440" cy="1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RUBRIQUE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97240" y="1522440"/>
            <a:ext cx="703440" cy="1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RUBRIQUE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070840" y="1063800"/>
            <a:ext cx="94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Calibri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70840" y="3713040"/>
            <a:ext cx="94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Calibri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70840" y="6211800"/>
            <a:ext cx="94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Calibri"/>
              </a:rPr>
              <a:t>FOO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0720" y="1720800"/>
            <a:ext cx="3760920" cy="1173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L D’ARI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94240" y="2062080"/>
            <a:ext cx="2048040" cy="5922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egoe Print"/>
              </a:rPr>
              <a:t>Un exemple de zoning :</a:t>
            </a:r>
            <a:r>
              <a:rPr b="0" lang="en-US" sz="1200" spc="-1" strike="noStrike">
                <a:solidFill>
                  <a:srgbClr val="ffffff"/>
                </a:solidFill>
                <a:latin typeface="Segoe Print"/>
              </a:rPr>
              <a:t> page produit d’un site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25"/>
          <p:cNvSpPr/>
          <p:nvPr/>
        </p:nvSpPr>
        <p:spPr>
          <a:xfrm>
            <a:off x="1031760" y="2857680"/>
            <a:ext cx="122580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MINIATU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AUTRES VU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6"/>
          <p:cNvSpPr/>
          <p:nvPr/>
        </p:nvSpPr>
        <p:spPr>
          <a:xfrm>
            <a:off x="450720" y="2004840"/>
            <a:ext cx="168768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ITEMS DE PARTAGE 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6"/>
          <p:cNvSpPr/>
          <p:nvPr/>
        </p:nvSpPr>
        <p:spPr>
          <a:xfrm>
            <a:off x="3081240" y="1901880"/>
            <a:ext cx="18637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NOM PRODU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6"/>
          <p:cNvSpPr/>
          <p:nvPr/>
        </p:nvSpPr>
        <p:spPr>
          <a:xfrm>
            <a:off x="3081240" y="2317680"/>
            <a:ext cx="186372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DESCRIPTIF + NOTATION PROD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16"/>
          <p:cNvSpPr/>
          <p:nvPr/>
        </p:nvSpPr>
        <p:spPr>
          <a:xfrm>
            <a:off x="3081240" y="2127240"/>
            <a:ext cx="1859040" cy="1396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PRIX PRODU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6"/>
          <p:cNvSpPr/>
          <p:nvPr/>
        </p:nvSpPr>
        <p:spPr>
          <a:xfrm>
            <a:off x="3081240" y="2825640"/>
            <a:ext cx="186372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PARAMÉTRAGE CARACTÉRISTIQUES PRODUIT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(taille, couleur,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6720" y="3517920"/>
            <a:ext cx="737244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5"/>
          <p:cNvSpPr/>
          <p:nvPr/>
        </p:nvSpPr>
        <p:spPr>
          <a:xfrm>
            <a:off x="450720" y="1901880"/>
            <a:ext cx="2540160" cy="16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VISU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PRODU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09240" y="5563800"/>
            <a:ext cx="81000" cy="8424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8520" y="5607000"/>
            <a:ext cx="74311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25"/>
          <p:cNvSpPr/>
          <p:nvPr/>
        </p:nvSpPr>
        <p:spPr>
          <a:xfrm>
            <a:off x="450720" y="5316480"/>
            <a:ext cx="4492800" cy="7365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CROSS-LI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(CEUX QUI ONT ACHETÉ CE PRODUIT ONT AUSSI AIMÉ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003280" y="6050880"/>
            <a:ext cx="485280" cy="424080"/>
            <a:chOff x="5003280" y="6050880"/>
            <a:chExt cx="485280" cy="424080"/>
          </a:xfrm>
        </p:grpSpPr>
        <p:sp>
          <p:nvSpPr>
            <p:cNvPr id="305" name=""/>
            <p:cNvSpPr/>
            <p:nvPr/>
          </p:nvSpPr>
          <p:spPr>
            <a:xfrm rot="20317200">
              <a:off x="5078880" y="6106680"/>
              <a:ext cx="365040" cy="312480"/>
            </a:xfrm>
            <a:custGeom>
              <a:avLst/>
              <a:gdLst/>
              <a:ahLst/>
              <a:rect l="l" t="t" r="r" b="b"/>
              <a:pathLst>
                <a:path w="316" h="340">
                  <a:moveTo>
                    <a:pt x="316" y="340"/>
                  </a:moveTo>
                  <a:cubicBezTo>
                    <a:pt x="248" y="238"/>
                    <a:pt x="181" y="137"/>
                    <a:pt x="128" y="80"/>
                  </a:cubicBezTo>
                  <a:cubicBezTo>
                    <a:pt x="75" y="23"/>
                    <a:pt x="37" y="11"/>
                    <a:pt x="0" y="0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0317200">
              <a:off x="5037840" y="6098040"/>
              <a:ext cx="296640" cy="245880"/>
            </a:xfrm>
            <a:custGeom>
              <a:avLst/>
              <a:gdLst/>
              <a:ahLst/>
              <a:rect l="l" t="t" r="r" b="b"/>
              <a:pathLst>
                <a:path w="187" h="155">
                  <a:moveTo>
                    <a:pt x="187" y="47"/>
                  </a:moveTo>
                  <a:cubicBezTo>
                    <a:pt x="148" y="35"/>
                    <a:pt x="109" y="23"/>
                    <a:pt x="79" y="19"/>
                  </a:cubicBezTo>
                  <a:cubicBezTo>
                    <a:pt x="49" y="15"/>
                    <a:pt x="0" y="0"/>
                    <a:pt x="7" y="23"/>
                  </a:cubicBezTo>
                  <a:lnTo>
                    <a:pt x="119" y="155"/>
                  </a:lnTo>
                </a:path>
              </a:pathLst>
            </a:custGeom>
            <a:noFill/>
            <a:ln w="316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359320" y="5754600"/>
            <a:ext cx="2449440" cy="8305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Segoe Print"/>
              </a:rPr>
              <a:t>Là aussi, en pre-footer, il aurait été possible d’intégrer un bloc d’inscription à la newsletter, un push de géolocalisation des boutiques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5"/>
          <p:cNvSpPr/>
          <p:nvPr/>
        </p:nvSpPr>
        <p:spPr>
          <a:xfrm>
            <a:off x="450720" y="6137280"/>
            <a:ext cx="44928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LIE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(MENTIONS LÉGALES, CONTACT, AIDE, ETC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25"/>
          <p:cNvSpPr/>
          <p:nvPr/>
        </p:nvSpPr>
        <p:spPr>
          <a:xfrm>
            <a:off x="988920" y="3170160"/>
            <a:ext cx="146376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VUES AUTRES VISUELS (MINIATUR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120" y="1666800"/>
            <a:ext cx="46386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25"/>
          <p:cNvSpPr/>
          <p:nvPr/>
        </p:nvSpPr>
        <p:spPr>
          <a:xfrm>
            <a:off x="3081240" y="3213000"/>
            <a:ext cx="1862280" cy="352440"/>
          </a:xfrm>
          <a:prstGeom prst="rect">
            <a:avLst/>
          </a:prstGeom>
          <a:solidFill>
            <a:srgbClr val="8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ACHETER / METTRE DE CÔTÉ / ET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25"/>
          <p:cNvSpPr/>
          <p:nvPr/>
        </p:nvSpPr>
        <p:spPr>
          <a:xfrm>
            <a:off x="450720" y="3624120"/>
            <a:ext cx="4492800" cy="7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ÉLÉMENTS DE RÉAS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(PAIEMENT SÉCURISÉ, GARANTIE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25"/>
          <p:cNvSpPr/>
          <p:nvPr/>
        </p:nvSpPr>
        <p:spPr>
          <a:xfrm>
            <a:off x="450720" y="4470480"/>
            <a:ext cx="4492800" cy="7682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CONTENU ÉDITORIAL ET/OU VIDÉ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(VALORISATION DU SAVOIR-FAIRE DU FABRIC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ZoneTexte 146"/>
          <p:cNvSpPr/>
          <p:nvPr/>
        </p:nvSpPr>
        <p:spPr>
          <a:xfrm>
            <a:off x="0" y="-1440"/>
            <a:ext cx="9144000" cy="234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20840"/>
            <a:ext cx="3638520" cy="1047600"/>
          </a:xfrm>
          <a:prstGeom prst="rect">
            <a:avLst/>
          </a:prstGeom>
          <a:solidFill>
            <a:srgbClr val="3333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léments constitutifs d’un z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ste non exhaus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146"/>
          <p:cNvSpPr/>
          <p:nvPr/>
        </p:nvSpPr>
        <p:spPr>
          <a:xfrm>
            <a:off x="0" y="-1440"/>
            <a:ext cx="9144000" cy="234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80000" y="2478240"/>
            <a:ext cx="358776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FORMULAIRE DE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CHAMP DE RECHER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RECHERCHE A FAC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ABONNEMENT NEWS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MODULE DE GÉOLOC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DIAPO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LECTEUR VIDÉ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WEB CALL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FO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SOND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COMP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NOTATION PROD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7760" y="2478240"/>
            <a:ext cx="362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TEX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IMA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MÉ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LIENS HYPERTEX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oneTexte 146"/>
          <p:cNvSpPr/>
          <p:nvPr/>
        </p:nvSpPr>
        <p:spPr>
          <a:xfrm>
            <a:off x="0" y="0"/>
            <a:ext cx="9144000" cy="23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ZoneTexte 146"/>
          <p:cNvSpPr/>
          <p:nvPr/>
        </p:nvSpPr>
        <p:spPr>
          <a:xfrm>
            <a:off x="57240" y="34920"/>
            <a:ext cx="5710320" cy="149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Document :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Zoning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ZoneTexte 146"/>
          <p:cNvSpPr/>
          <p:nvPr/>
        </p:nvSpPr>
        <p:spPr>
          <a:xfrm>
            <a:off x="8267760" y="34920"/>
            <a:ext cx="857160" cy="149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Date : </a:t>
            </a:r>
            <a:fld id="{17DE66E6-8C4C-45BE-A233-CBB0222F885F}" type="datetime"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0000" y="1843200"/>
            <a:ext cx="3620880" cy="579240"/>
          </a:xfrm>
          <a:prstGeom prst="rect">
            <a:avLst/>
          </a:prstGeom>
          <a:solidFill>
            <a:srgbClr val="333333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NCTIONNALIT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7760" y="1843200"/>
            <a:ext cx="3620880" cy="579240"/>
          </a:xfrm>
          <a:prstGeom prst="rect">
            <a:avLst/>
          </a:prstGeom>
          <a:solidFill>
            <a:srgbClr val="333333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NT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7760" y="4035600"/>
            <a:ext cx="3692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alibri"/>
              </a:rPr>
              <a:t>FIL D’ARIANE / NAVIGATION PRINCIPALE OU SECONDAIRE / LOGO / PHOTO / LÉGENDE IMAGE / BRÈVE / ARTICLE / INFOGRAPHIE / VIDÉO / PUSH NOUVEAUTÉS / PUSH PRODUITS OU SERVICES / REMONTÉE RÉSEAUX SOCIAUX / LIENS CONNEXES / ÉLÉMENTS DE RÉASSURANCE / LIENS FOOTER /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0800000">
            <a:off x="1550880" y="3368520"/>
            <a:ext cx="1214640" cy="5176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oneTexte 146"/>
          <p:cNvSpPr/>
          <p:nvPr/>
        </p:nvSpPr>
        <p:spPr>
          <a:xfrm>
            <a:off x="0" y="6815160"/>
            <a:ext cx="9144000" cy="42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oneTexte 146"/>
          <p:cNvSpPr/>
          <p:nvPr/>
        </p:nvSpPr>
        <p:spPr>
          <a:xfrm>
            <a:off x="0" y="6815160"/>
            <a:ext cx="9144000" cy="42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ZoneTexte 146"/>
          <p:cNvSpPr/>
          <p:nvPr/>
        </p:nvSpPr>
        <p:spPr>
          <a:xfrm>
            <a:off x="0" y="-1440"/>
            <a:ext cx="9144000" cy="234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420840"/>
            <a:ext cx="3638520" cy="1047600"/>
          </a:xfrm>
          <a:prstGeom prst="rect">
            <a:avLst/>
          </a:prstGeom>
          <a:solidFill>
            <a:srgbClr val="3333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Zoning / Wirefram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quelle différenc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oneTexte 146"/>
          <p:cNvSpPr/>
          <p:nvPr/>
        </p:nvSpPr>
        <p:spPr>
          <a:xfrm>
            <a:off x="0" y="-1440"/>
            <a:ext cx="9144000" cy="234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oneTexte 146"/>
          <p:cNvSpPr/>
          <p:nvPr/>
        </p:nvSpPr>
        <p:spPr>
          <a:xfrm>
            <a:off x="0" y="0"/>
            <a:ext cx="9144000" cy="23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oneTexte 146"/>
          <p:cNvSpPr/>
          <p:nvPr/>
        </p:nvSpPr>
        <p:spPr>
          <a:xfrm>
            <a:off x="57240" y="34920"/>
            <a:ext cx="5710320" cy="149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Document :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 Zoning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ZoneTexte 146"/>
          <p:cNvSpPr/>
          <p:nvPr/>
        </p:nvSpPr>
        <p:spPr>
          <a:xfrm>
            <a:off x="8267760" y="34920"/>
            <a:ext cx="857160" cy="149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Date : </a:t>
            </a:r>
            <a:fld id="{9B87D0BA-1E0F-4F40-A2C7-0FA6BBBC551A}" type="datetime">
              <a:rPr b="1" lang="en-US" sz="8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7760" y="2495520"/>
            <a:ext cx="35748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Calibri"/>
              </a:rPr>
              <a:t>En anglais, on emploie le terme </a:t>
            </a:r>
            <a:r>
              <a:rPr b="1" lang="en-US" sz="1100" spc="-1" strike="noStrike">
                <a:solidFill>
                  <a:srgbClr val="4d4d4d"/>
                </a:solidFill>
                <a:latin typeface="Calibri"/>
              </a:rPr>
              <a:t>Wireframe</a:t>
            </a:r>
            <a:r>
              <a:rPr b="0" lang="en-US" sz="1100" spc="-1" strike="noStrike">
                <a:solidFill>
                  <a:srgbClr val="4d4d4d"/>
                </a:solidFill>
                <a:latin typeface="Calibri"/>
              </a:rPr>
              <a:t> (marquette en fil de fer), traduit en français par le mot </a:t>
            </a:r>
            <a:r>
              <a:rPr b="1" lang="en-US" sz="1100" spc="-1" strike="noStrike">
                <a:solidFill>
                  <a:srgbClr val="4d4d4d"/>
                </a:solidFill>
                <a:latin typeface="Calibri"/>
              </a:rPr>
              <a:t>Zoning</a:t>
            </a:r>
            <a:r>
              <a:rPr b="0" lang="en-US" sz="1100" spc="-1" strike="noStrike">
                <a:solidFill>
                  <a:srgbClr val="4d4d4d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Calibri"/>
              </a:rPr>
              <a:t>Lorsqu’on parle de zoning ou de wireframe, on parle donc globalement de la même cho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08440" y="2455920"/>
            <a:ext cx="360684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Calibri"/>
              </a:rPr>
              <a:t>Dans certaines agences web, la distinction est parfois faite entre le travail sur le zoning et la création des wireframes.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4d4d4d"/>
                </a:solidFill>
                <a:latin typeface="Calibri"/>
              </a:rPr>
              <a:t>Le zoning est alors une version simplifiée de la structure d’une page de site internet. Elle sert à poser les grandes masses, les grandes zones. C’est le modèle (page produit de site e-commerce) que vous trouvez précédemment en exemp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Calibri"/>
              </a:rPr>
              <a:t>Le wireframe constitue une version complète et très détaillée de la structure d’une page de site internet. C’est un modèle que nous traiterons ultérieurement dans nos gabari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708440" y="1843200"/>
            <a:ext cx="3621240" cy="579240"/>
          </a:xfrm>
          <a:prstGeom prst="rect">
            <a:avLst/>
          </a:prstGeom>
          <a:solidFill>
            <a:srgbClr val="333333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…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ENFIN, PRESQUE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7760" y="1843200"/>
            <a:ext cx="3620880" cy="579240"/>
          </a:xfrm>
          <a:prstGeom prst="rect">
            <a:avLst/>
          </a:prstGeom>
          <a:solidFill>
            <a:srgbClr val="333333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ヒラギノ角ゴ ProN W3"/>
              </a:rPr>
              <a:t>AUCUNE DIFFÉRENC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ZoneTexte 146"/>
          <p:cNvSpPr/>
          <p:nvPr/>
        </p:nvSpPr>
        <p:spPr>
          <a:xfrm>
            <a:off x="0" y="6815160"/>
            <a:ext cx="9144000" cy="42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oneTexte 146"/>
          <p:cNvSpPr/>
          <p:nvPr/>
        </p:nvSpPr>
        <p:spPr>
          <a:xfrm>
            <a:off x="0" y="6815160"/>
            <a:ext cx="9144000" cy="42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ZoneTexte 146"/>
          <p:cNvSpPr/>
          <p:nvPr/>
        </p:nvSpPr>
        <p:spPr>
          <a:xfrm>
            <a:off x="0" y="0"/>
            <a:ext cx="9144000" cy="23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oneTexte 146"/>
          <p:cNvSpPr/>
          <p:nvPr/>
        </p:nvSpPr>
        <p:spPr>
          <a:xfrm>
            <a:off x="0" y="6815160"/>
            <a:ext cx="9144000" cy="428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7"/>
          <p:cNvSpPr/>
          <p:nvPr/>
        </p:nvSpPr>
        <p:spPr>
          <a:xfrm>
            <a:off x="1526400" y="329976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es contenus sont mis à votre disposition selon les termes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icence Creative Commons Attribution 3.0 F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8"/>
          <p:cNvSpPr/>
          <p:nvPr/>
        </p:nvSpPr>
        <p:spPr>
          <a:xfrm>
            <a:off x="2241360" y="400068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creativecommons.org/licenses/by/3.0/f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2935440" y="5383080"/>
            <a:ext cx="32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www.metacontents.f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2" descr="logo-meta-contents"/>
          <p:cNvPicPr/>
          <p:nvPr/>
        </p:nvPicPr>
        <p:blipFill>
          <a:blip r:embed="rId3"/>
          <a:stretch/>
        </p:blipFill>
        <p:spPr>
          <a:xfrm>
            <a:off x="3552840" y="4621320"/>
            <a:ext cx="2038320" cy="610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cc-by"/>
          <p:cNvPicPr/>
          <p:nvPr/>
        </p:nvPicPr>
        <p:blipFill>
          <a:blip r:embed="rId4"/>
          <a:stretch/>
        </p:blipFill>
        <p:spPr>
          <a:xfrm>
            <a:off x="2784600" y="1822320"/>
            <a:ext cx="3573360" cy="12510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20:31:44Z</dcterms:created>
  <dc:creator/>
  <dc:description/>
  <dc:language>en-US</dc:language>
  <cp:lastModifiedBy>Christophe Méar</cp:lastModifiedBy>
  <dcterms:modified xsi:type="dcterms:W3CDTF">2014-04-29T14:33:03Z</dcterms:modified>
  <cp:revision>2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